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91B2-48F3-44C8-9312-F5421A997D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A26D-8415-429C-B414-C79402399A5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68333-FE5E-47B7-ADC0-EFF8EDE0EA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96CE-3EEB-4F7C-9BBC-3C38840D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F1F2-59E9-46CE-9A88-FFC11472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CCDA-F2AB-4586-9202-4ACB81931E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D7EE-181C-4667-85EF-65C613EB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4FD4-7B02-4533-BB6D-45ABBB29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4102-016B-4AD8-A5AB-CBCD91BC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D6B6-210B-47D1-8BCB-7744A2AD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AD34-1951-4C8E-A5B8-9DFA0409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C429-EE18-4D27-B82B-B3BDFEB6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5CEA-0203-4B68-B481-69B84E00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E765-1A71-4F19-A172-5ABECD34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F77B-C6EF-452A-A2A3-4C9488677D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九节  恶心与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消化性溃疡、肝硬化、腹部手术、晕车晕船等相关病史及用药史，女性患者的月经史、婚育史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后有无采取相应的处理措施及其效果等，包括诊断、治疗的经过、相关的辅助检查结果等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态、皮肤弹性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若怀疑消化系统疾病，则应注意腹部的评估，特别是腹式呼吸运动、胃肠型及蠕动波、腹膜刺激征、移动性浊音、肾区叩击痛、肠鸣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心率、心音强度有无变化，有无肌力减退、生理反射减弱、病理反射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肾功能、酸碱平衡及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钡餐、胃镜、腹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 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舒适度减弱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急性胃肠炎导致的频繁呕吐有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体液不足或有体液不足的危险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引起体液丢失、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低于机体需要量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长期频繁呕吐和食物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窒息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物误吸入肺内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恶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为上腹部不适和紧迫欲吐的感觉，可伴有迷走神经兴奋的症状，如皮肤苍白、出汗、流涎、血压降低及心动过缓等，常为呕吐的先兆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通过胃的强烈收缩迫使胃或部分小肠的内容物经食管、口腔而排出体外的现象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组合 47"/>
          <p:cNvGrpSpPr/>
          <p:nvPr/>
        </p:nvGrpSpPr>
        <p:grpSpPr>
          <a:xfrm>
            <a:off x="571680" y="1714680"/>
            <a:ext cx="7929360" cy="3803400"/>
            <a:chOff x="571680" y="1714680"/>
            <a:chExt cx="7929360" cy="3803400"/>
          </a:xfrm>
        </p:grpSpPr>
        <p:grpSp>
          <p:nvGrpSpPr>
            <p:cNvPr id="119" name="组合 41"/>
            <p:cNvGrpSpPr/>
            <p:nvPr/>
          </p:nvGrpSpPr>
          <p:grpSpPr>
            <a:xfrm>
              <a:off x="571680" y="1714680"/>
              <a:ext cx="7929360" cy="3803400"/>
              <a:chOff x="571680" y="1714680"/>
              <a:chExt cx="7929360" cy="380340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2786040" y="2428920"/>
                <a:ext cx="2214360" cy="3567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99"/>
                    </a:solidFill>
                    <a:latin typeface="Arial"/>
                    <a:ea typeface="华文新魏"/>
                  </a:rPr>
                  <a:t>血液的化学性刺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3071880" y="4214520"/>
                <a:ext cx="164304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神经反射中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2" name="AutoShape 19"/>
              <p:cNvCxnSpPr/>
              <p:nvPr/>
            </p:nvCxnSpPr>
            <p:spPr>
              <a:xfrm flipH="1">
                <a:off x="3857400" y="4643280"/>
                <a:ext cx="2160" cy="5004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3" name="Rectangle 8"/>
              <p:cNvSpPr/>
              <p:nvPr/>
            </p:nvSpPr>
            <p:spPr>
              <a:xfrm>
                <a:off x="3286080" y="514332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呕吐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线形标注 2 21"/>
              <p:cNvSpPr/>
              <p:nvPr/>
            </p:nvSpPr>
            <p:spPr>
              <a:xfrm>
                <a:off x="6143760" y="1714680"/>
                <a:ext cx="2357280" cy="785520"/>
              </a:xfrm>
              <a:prstGeom prst="borderCallout2">
                <a:avLst>
                  <a:gd name="adj1" fmla="val 18750"/>
                  <a:gd name="adj2" fmla="val -8333"/>
                  <a:gd name="adj3" fmla="val 18518"/>
                  <a:gd name="adj4" fmla="val -16666"/>
                  <a:gd name="adj5" fmla="val 113425"/>
                  <a:gd name="adj6" fmla="val -46296"/>
                </a:avLst>
              </a:prstGeom>
              <a:solidFill>
                <a:srgbClr val="ffffff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如外源的化学性物质、药物、内生代谢产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5" name="AutoShape 19"/>
              <p:cNvCxnSpPr/>
              <p:nvPr/>
            </p:nvCxnSpPr>
            <p:spPr>
              <a:xfrm flipH="1">
                <a:off x="3856680" y="2786760"/>
                <a:ext cx="2160" cy="14292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6" name="Rectangle 8"/>
              <p:cNvSpPr/>
              <p:nvPr/>
            </p:nvSpPr>
            <p:spPr>
              <a:xfrm>
                <a:off x="5357880" y="2714400"/>
                <a:ext cx="1214280" cy="99972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迷走神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内耳前庭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脑皮质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7" name="组合 40"/>
              <p:cNvGrpSpPr/>
              <p:nvPr/>
            </p:nvGrpSpPr>
            <p:grpSpPr>
              <a:xfrm>
                <a:off x="571680" y="3500280"/>
                <a:ext cx="7000920" cy="1089000"/>
                <a:chOff x="571680" y="3500280"/>
                <a:chExt cx="7000920" cy="108900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571680" y="4214520"/>
                  <a:ext cx="22143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化学感受器触发带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30"/>
                <p:cNvSpPr/>
                <p:nvPr/>
              </p:nvSpPr>
              <p:spPr>
                <a:xfrm>
                  <a:off x="2786040" y="4214520"/>
                  <a:ext cx="28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46ca6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AutoShape 19"/>
                <p:cNvCxnSpPr/>
                <p:nvPr/>
              </p:nvCxnSpPr>
              <p:spPr>
                <a:xfrm>
                  <a:off x="4786200" y="4427280"/>
                  <a:ext cx="570600" cy="21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  <p:sp>
              <p:nvSpPr>
                <p:cNvPr id="131" name="Rectangle 8"/>
                <p:cNvSpPr/>
                <p:nvPr/>
              </p:nvSpPr>
              <p:spPr>
                <a:xfrm>
                  <a:off x="5429520" y="4214520"/>
                  <a:ext cx="21430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呕吐中枢（延髓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2" name="上弧形箭头 35"/>
                <p:cNvSpPr/>
                <p:nvPr/>
              </p:nvSpPr>
              <p:spPr>
                <a:xfrm>
                  <a:off x="2143080" y="3857400"/>
                  <a:ext cx="1285920" cy="285480"/>
                </a:xfrm>
                <a:custGeom>
                  <a:avLst/>
                  <a:gdLst>
                    <a:gd name="textAreaLeft" fmla="*/ 294480 w 1285920"/>
                    <a:gd name="textAreaRight" fmla="*/ 955440 w 1285920"/>
                    <a:gd name="textAreaTop" fmla="*/ 38160 h 285480"/>
                    <a:gd name="textAreaBottom" fmla="*/ 24732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11100" y="0"/>
                      </a:lnTo>
                      <a:arcTo wR="9900" hR="21600" stAng="-5400000" swAng="3636334"/>
                      <a:lnTo>
                        <a:pt x="21286" y="16200"/>
                      </a:lnTo>
                      <a:lnTo>
                        <a:pt x="20400" y="21600"/>
                      </a:lnTo>
                      <a:lnTo>
                        <a:pt x="18886" y="16200"/>
                      </a:lnTo>
                      <a:lnTo>
                        <a:pt x="19486" y="16200"/>
                      </a:lnTo>
                      <a:arcTo wR="9900" hR="21600" stAng="-1763666" swAng="-3540690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9900" y="0"/>
                      </a:lnTo>
                      <a:arcTo wR="9900" hR="21600" stAng="-5400000" swAng="95644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6492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6"/>
                <p:cNvSpPr/>
                <p:nvPr/>
              </p:nvSpPr>
              <p:spPr>
                <a:xfrm>
                  <a:off x="2428920" y="3500280"/>
                  <a:ext cx="92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刺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4" name="AutoShape 19"/>
                <p:cNvCxnSpPr/>
                <p:nvPr/>
              </p:nvCxnSpPr>
              <p:spPr>
                <a:xfrm flipH="1">
                  <a:off x="4785840" y="3714120"/>
                  <a:ext cx="500760" cy="5007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5" name="TextBox 45"/>
            <p:cNvSpPr/>
            <p:nvPr/>
          </p:nvSpPr>
          <p:spPr>
            <a:xfrm rot="2668800">
              <a:off x="4786200" y="3701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3500640" y="3071880"/>
              <a:ext cx="7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分为恶心、干呕和呕吐 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阶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但有时可无恶心或干呕的先兆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2" descr="C:\Documents and Settings\Administrator\Application Data\360se6\Application\User Data\temp\u=4231522676,1839925651&amp;fm=21&amp;gp=0.jpg"/>
          <p:cNvPicPr/>
          <p:nvPr/>
        </p:nvPicPr>
        <p:blipFill>
          <a:blip r:embed="rId1"/>
          <a:stretch/>
        </p:blipFill>
        <p:spPr>
          <a:xfrm>
            <a:off x="493560" y="3419640"/>
            <a:ext cx="2005200" cy="3493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"/>
          <p:cNvGrpSpPr/>
          <p:nvPr/>
        </p:nvGrpSpPr>
        <p:grpSpPr>
          <a:xfrm>
            <a:off x="1585800" y="3456000"/>
            <a:ext cx="3571920" cy="2633040"/>
            <a:chOff x="1585800" y="3456000"/>
            <a:chExt cx="3571920" cy="2633040"/>
          </a:xfrm>
        </p:grpSpPr>
        <p:sp>
          <p:nvSpPr>
            <p:cNvPr id="142" name="Rectangle 6"/>
            <p:cNvSpPr/>
            <p:nvPr/>
          </p:nvSpPr>
          <p:spPr>
            <a:xfrm>
              <a:off x="2943000" y="3456000"/>
              <a:ext cx="171468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胃窦部收缩致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幽门关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3157560" y="459900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胃逆蠕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4" name="AutoShape 19"/>
            <p:cNvCxnSpPr>
              <a:endCxn id="143" idx="0"/>
            </p:cNvCxnSpPr>
            <p:nvPr/>
          </p:nvCxnSpPr>
          <p:spPr>
            <a:xfrm flipH="1">
              <a:off x="3800160" y="40986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5" name="Rectangle 8"/>
            <p:cNvSpPr/>
            <p:nvPr/>
          </p:nvSpPr>
          <p:spPr>
            <a:xfrm>
              <a:off x="3157560" y="552816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贲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6" name="AutoShape 19"/>
            <p:cNvCxnSpPr/>
            <p:nvPr/>
          </p:nvCxnSpPr>
          <p:spPr>
            <a:xfrm flipH="1">
              <a:off x="3800160" y="50274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7" name="TextBox 16"/>
            <p:cNvSpPr/>
            <p:nvPr/>
          </p:nvSpPr>
          <p:spPr>
            <a:xfrm>
              <a:off x="1585800" y="54565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呕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8" name="AutoShape 19"/>
            <p:cNvCxnSpPr/>
            <p:nvPr/>
          </p:nvCxnSpPr>
          <p:spPr>
            <a:xfrm flipH="1" flipV="1">
              <a:off x="2371320" y="5742000"/>
              <a:ext cx="71496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9" name="TextBox 20"/>
            <p:cNvSpPr/>
            <p:nvPr/>
          </p:nvSpPr>
          <p:spPr>
            <a:xfrm>
              <a:off x="2514240" y="5385240"/>
              <a:ext cx="2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开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0" name="AutoShape 19"/>
            <p:cNvCxnSpPr/>
            <p:nvPr/>
          </p:nvCxnSpPr>
          <p:spPr>
            <a:xfrm flipV="1">
              <a:off x="4514760" y="5742000"/>
              <a:ext cx="64332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51" name="TextBox 23"/>
            <p:cNvSpPr/>
            <p:nvPr/>
          </p:nvSpPr>
          <p:spPr>
            <a:xfrm>
              <a:off x="4586400" y="5385240"/>
              <a:ext cx="35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未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TextBox 24"/>
          <p:cNvSpPr/>
          <p:nvPr/>
        </p:nvSpPr>
        <p:spPr>
          <a:xfrm>
            <a:off x="5157720" y="5456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恶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3" name="圆角矩形 1"/>
          <p:cNvGrpSpPr/>
          <p:nvPr/>
        </p:nvGrpSpPr>
        <p:grpSpPr>
          <a:xfrm>
            <a:off x="5499000" y="3492360"/>
            <a:ext cx="3071880" cy="1506600"/>
            <a:chOff x="5499000" y="3492360"/>
            <a:chExt cx="3071880" cy="1506600"/>
          </a:xfrm>
        </p:grpSpPr>
        <p:pic>
          <p:nvPicPr>
            <p:cNvPr id="1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5499000" y="3492360"/>
              <a:ext cx="30718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645160" y="3591000"/>
              <a:ext cx="2806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Verdana"/>
                  <a:ea typeface="华文新魏"/>
                </a:rPr>
                <a:t>恶心与呕吐的区别在于呕吐中枢接受的冲动轻度不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反射性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内脏末梢神经的冲动          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咽部受到刺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、十二指肠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肠道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肝胆胰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膜及肠系膜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疾病：如急性心肌梗死早期、心力衰竭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9" name="AutoShape 19"/>
          <p:cNvCxnSpPr/>
          <p:nvPr/>
        </p:nvCxnSpPr>
        <p:spPr>
          <a:xfrm>
            <a:off x="5214600" y="2499840"/>
            <a:ext cx="185796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160" name="TextBox 7"/>
          <p:cNvSpPr/>
          <p:nvPr/>
        </p:nvSpPr>
        <p:spPr>
          <a:xfrm>
            <a:off x="-107172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429160" y="21430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自主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传入纤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中枢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中枢神经系统或化学感受器的冲动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系统疾病：颅内感染、脑血管疾病、颅脑损伤、癫痫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全身性疾病：尿毒症、肝昏迷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：某些抗生素、抗肿瘤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毒：乙醇、重金属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5" name="AutoShape 19"/>
          <p:cNvCxnSpPr/>
          <p:nvPr/>
        </p:nvCxnSpPr>
        <p:spPr>
          <a:xfrm>
            <a:off x="7215120" y="2499840"/>
            <a:ext cx="21528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前庭障碍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常见疾病有晕动病、梅尼埃病、迷路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凡呕吐伴有听力障碍、眩晕等耳科症状者，需考虑前庭障碍性呕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" descr="C:\Documents and Settings\Administrator\Application Data\360se6\Application\User Data\temp\u=3631593113,1277869079&amp;fm=21&amp;gp=0.jpg"/>
          <p:cNvPicPr/>
          <p:nvPr/>
        </p:nvPicPr>
        <p:blipFill>
          <a:blip r:embed="rId1"/>
          <a:stretch/>
        </p:blipFill>
        <p:spPr>
          <a:xfrm>
            <a:off x="5430960" y="3859200"/>
            <a:ext cx="2377800" cy="17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istrator\Application Data\360se6\Application\User Data\temp\u=3624753639,3498494534&amp;fm=21&amp;gp=0.jpg"/>
          <p:cNvPicPr/>
          <p:nvPr/>
        </p:nvPicPr>
        <p:blipFill>
          <a:blip r:embed="rId2"/>
          <a:stretch/>
        </p:blipFill>
        <p:spPr>
          <a:xfrm>
            <a:off x="1359000" y="3786120"/>
            <a:ext cx="283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包括起病的急缓，有无诱因，呕吐的时间，呕吐物的特征及呕吐物性状、气味、量，是否有胆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、腹泻  急性胃肠炎或细菌性食物中毒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右上腹痛及发热、寒战或黄疸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胆囊炎或胆石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头痛及喷射性呕吐  颅内高压症或青光眼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眩晕、眼球震颤  前庭器官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4" name="AutoShape 19"/>
          <p:cNvCxnSpPr/>
          <p:nvPr/>
        </p:nvCxnSpPr>
        <p:spPr>
          <a:xfrm>
            <a:off x="5928840" y="4357800"/>
            <a:ext cx="35820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5" name="AutoShape 19"/>
          <p:cNvCxnSpPr/>
          <p:nvPr/>
        </p:nvCxnSpPr>
        <p:spPr>
          <a:xfrm>
            <a:off x="3214800" y="39290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6" name="AutoShape 19"/>
          <p:cNvCxnSpPr/>
          <p:nvPr/>
        </p:nvCxnSpPr>
        <p:spPr>
          <a:xfrm>
            <a:off x="4214880" y="4857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7" name="AutoShape 19"/>
          <p:cNvCxnSpPr/>
          <p:nvPr/>
        </p:nvCxnSpPr>
        <p:spPr>
          <a:xfrm>
            <a:off x="3857760" y="535788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水和电解质的丢失   脱水、低血氯、低血钾、代谢性碱中毒等水、电解质及酸碱平衡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物中的酸性物质   牙齿造成腐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营养不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婴幼儿、可老年人及有意识障碍者   误吸而致窒息或肺部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1" name="AutoShape 19"/>
          <p:cNvCxnSpPr/>
          <p:nvPr/>
        </p:nvCxnSpPr>
        <p:spPr>
          <a:xfrm>
            <a:off x="4857840" y="2571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2" name="AutoShape 19"/>
          <p:cNvCxnSpPr/>
          <p:nvPr/>
        </p:nvCxnSpPr>
        <p:spPr>
          <a:xfrm>
            <a:off x="4572000" y="34290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3" name="AutoShape 19"/>
          <p:cNvCxnSpPr/>
          <p:nvPr/>
        </p:nvCxnSpPr>
        <p:spPr>
          <a:xfrm>
            <a:off x="6500880" y="43578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3:15Z</dcterms:modified>
  <cp:revision>17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